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A59-849B-42F1-84C5-B0D3F017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2BD-CF85-4E2C-886E-44666D22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2E93-FF49-43E0-81F3-ECB98D1CA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EB11-BBB4-4CE7-8133-2175437EA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C33D-BE65-43F3-BC18-634D4EAA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0D280-B62E-48C1-BAE2-796272855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429FE-E357-41F5-A941-A3A948BB1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CD4AF-EC01-4150-A526-974AA9E3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9592A-ED78-4447-B9C1-369AE900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C1A2-AD8E-4325-B69D-6E15070B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E51E4-86E4-4FFB-855B-FFEA6186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D464-1611-4093-BE18-A80869CF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BDFDC-5034-494C-926B-FDE96E09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8A15-D1BB-4080-AC75-9827297F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DBE5-4D6C-4E9E-8D5D-5D0E0ADA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80D6-7126-4252-8621-05C13576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2716-B744-4B8E-B71B-7B7C0EB54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B92-5F32-459C-8E11-1C6AA75B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8C6BE-6F2C-498D-990F-BF2F3C15D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A76FD-2854-431D-A325-D0533749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2FC83-E813-4169-BCF1-E7B45839B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22C2-BC30-46E9-ADDF-9B1713E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6CCF5-D7BE-46A3-8EA6-1BB25EB9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89866-A4B9-4BCA-B8E6-E73DF52C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B958-525B-4F6A-90E6-318FBC5F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64C7-8C9A-4780-AD00-596E872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6697-DC42-481F-935A-8C765DF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9F5D-F5BF-4529-8ADF-D3E43B2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C454D-C2F9-45BB-B221-2B429A6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96E11-AFA0-42B3-93BA-3B59170D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52CC-8307-40C0-BB8F-1E6C76604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7B171-3E0A-4D66-A8B6-DE6D646A1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552-E0E6-4AF1-8B82-7EAE099E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BFCB8-21BD-435C-9E16-DEAB3236C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6CCBB-3278-472D-888E-1B6CFA609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51348-2661-43C2-B7E4-B4795B94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C64A4-594B-4686-B3CC-CD65AD25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59D54-391B-4BEC-9928-BACF530E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CD889-28CB-42A9-B3F2-D0008728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49B9B-56EE-4548-B997-BB161C09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581EC-7406-41AF-B9CD-C77A066B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7E733-C980-49B2-9610-260477B3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0E848-CA46-4118-8FE9-212B550A2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85E6-6269-4D72-9DAF-7F70DCC2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6BAC8-349F-48B8-9973-AF3334A6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5AB3-D5AD-42A1-9AB4-162036FE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33D1F-0622-4479-BDE7-03158F55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9B32CD-C65B-492B-BEA7-8635BCF6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ABD2D-E395-484C-ACAB-316FD4C5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7E43A-E9A0-458C-B829-800ED270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28720" y="75960"/>
            <a:ext cx="748512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5BEDF-45B0-4954-AF04-F6660B60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F4EBE-1336-4AF9-8A00-F8B05DB1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93E8A-87BE-4D70-A907-AAED328D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82FDE-32BF-41C2-B94B-8C50B084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C39-BE54-4580-B02C-59DACC13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65FC5-FACF-482B-80F6-76B98A03F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7B8FA-53FA-4801-834F-88472989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024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891760" y="160020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2872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024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891760" y="3988440"/>
            <a:ext cx="2410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7EEB-F6ED-4CE2-904A-1F59BC512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398844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1E6-92F5-41E8-B7CB-D103B7AE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72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600200"/>
            <a:ext cx="365328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720" y="3988440"/>
            <a:ext cx="74865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1A78-00D0-4C98-933E-87170A05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3C7E-772C-42C5-A8A9-960EA546B325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Группа 14"/>
          <p:cNvGrpSpPr/>
          <p:nvPr/>
        </p:nvGrpSpPr>
        <p:grpSpPr>
          <a:xfrm>
            <a:off x="826920" y="1219320"/>
            <a:ext cx="7490160" cy="83880"/>
            <a:chOff x="826920" y="1219320"/>
            <a:chExt cx="7490160" cy="83880"/>
          </a:xfrm>
        </p:grpSpPr>
        <p:sp>
          <p:nvSpPr>
            <p:cNvPr id="6" name="Прямая соединительная линия 12"/>
            <p:cNvSpPr/>
            <p:nvPr/>
          </p:nvSpPr>
          <p:spPr>
            <a:xfrm flipH="1">
              <a:off x="826920" y="1219320"/>
              <a:ext cx="749016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7" name="Прямая соединительная линия 13"/>
            <p:cNvSpPr/>
            <p:nvPr/>
          </p:nvSpPr>
          <p:spPr>
            <a:xfrm flipH="1">
              <a:off x="826920" y="1303200"/>
              <a:ext cx="749016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46" name="Рисунок 10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7C78-7320-4077-9A12-1B834866E855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Группа 12"/>
          <p:cNvGrpSpPr/>
          <p:nvPr/>
        </p:nvGrpSpPr>
        <p:grpSpPr>
          <a:xfrm>
            <a:off x="0" y="5645160"/>
            <a:ext cx="9144000" cy="63360"/>
            <a:chOff x="0" y="5645160"/>
            <a:chExt cx="9144000" cy="63360"/>
          </a:xfrm>
        </p:grpSpPr>
        <p:sp>
          <p:nvSpPr>
            <p:cNvPr id="89" name="Прямая соединительная линия 10"/>
            <p:cNvSpPr/>
            <p:nvPr/>
          </p:nvSpPr>
          <p:spPr>
            <a:xfrm flipH="1">
              <a:off x="0" y="56451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0" name="Прямая соединительная линия 11"/>
            <p:cNvSpPr/>
            <p:nvPr/>
          </p:nvSpPr>
          <p:spPr>
            <a:xfrm flipH="1">
              <a:off x="0" y="570852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grpSp>
        <p:nvGrpSpPr>
          <p:cNvPr id="91" name="Группа 13"/>
          <p:cNvGrpSpPr/>
          <p:nvPr/>
        </p:nvGrpSpPr>
        <p:grpSpPr>
          <a:xfrm>
            <a:off x="0" y="1143000"/>
            <a:ext cx="9144000" cy="63360"/>
            <a:chOff x="0" y="1143000"/>
            <a:chExt cx="9144000" cy="63360"/>
          </a:xfrm>
        </p:grpSpPr>
        <p:sp>
          <p:nvSpPr>
            <p:cNvPr id="92" name="Прямая соединительная линия 15"/>
            <p:cNvSpPr/>
            <p:nvPr/>
          </p:nvSpPr>
          <p:spPr>
            <a:xfrm>
              <a:off x="0" y="1206360"/>
              <a:ext cx="9144000" cy="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93" name="Прямая соединительная линия 16"/>
            <p:cNvSpPr/>
            <p:nvPr/>
          </p:nvSpPr>
          <p:spPr>
            <a:xfrm>
              <a:off x="0" y="1143000"/>
              <a:ext cx="9144000" cy="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94" name="Прямоугольник 17"/>
          <p:cNvSpPr/>
          <p:nvPr/>
        </p:nvSpPr>
        <p:spPr>
          <a:xfrm>
            <a:off x="0" y="577836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0" y="0"/>
            <a:ext cx="9144000" cy="1079640"/>
          </a:xfrm>
          <a:prstGeom prst="rect">
            <a:avLst/>
          </a:prstGeom>
          <a:solidFill>
            <a:srgbClr val="5148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pic>
        <p:nvPicPr>
          <p:cNvPr id="96" name="Рисунок 9" descr=""/>
          <p:cNvPicPr/>
          <p:nvPr/>
        </p:nvPicPr>
        <p:blipFill>
          <a:blip r:embed="rId2"/>
          <a:stretch/>
        </p:blipFill>
        <p:spPr>
          <a:xfrm>
            <a:off x="993600" y="0"/>
            <a:ext cx="1311480" cy="2292480"/>
          </a:xfrm>
          <a:prstGeom prst="rect">
            <a:avLst/>
          </a:prstGeom>
          <a:ln w="0">
            <a:noFill/>
          </a:ln>
        </p:spPr>
      </p:pic>
      <p:sp>
        <p:nvSpPr>
          <p:cNvPr id="97" name="Пояснительный текст"/>
          <p:cNvSpPr/>
          <p:nvPr/>
        </p:nvSpPr>
        <p:spPr>
          <a:xfrm>
            <a:off x="9258480" y="0"/>
            <a:ext cx="971280" cy="6858000"/>
          </a:xfrm>
          <a:custGeom>
            <a:avLst/>
            <a:gdLst>
              <a:gd name="textAreaLeft" fmla="*/ 27360 w 971280"/>
              <a:gd name="textAreaRight" fmla="*/ 943920 w 971280"/>
              <a:gd name="textAreaTop" fmla="*/ 27360 h 6858000"/>
              <a:gd name="textAreaBottom" fmla="*/ 6830640 h 6858000"/>
            </a:gdLst>
            <a:ahLst/>
            <a:rect l="textAreaLeft" t="textAreaTop" r="textAreaRight" b="textAreaBottom"/>
            <a:pathLst>
              <a:path w="21600" h="152464">
                <a:moveTo>
                  <a:pt x="2099" y="0"/>
                </a:moveTo>
                <a:arcTo wR="2099" hR="2099" stAng="16200000" swAng="-5400000"/>
                <a:lnTo>
                  <a:pt x="0" y="150365"/>
                </a:lnTo>
                <a:arcTo wR="2099" hR="2099" stAng="10800000" swAng="-5400000"/>
                <a:lnTo>
                  <a:pt x="19501" y="152464"/>
                </a:lnTo>
                <a:arcTo wR="2099" hR="2099" stAng="5400000" swAng="-5400000"/>
                <a:lnTo>
                  <a:pt x="21600" y="2099"/>
                </a:lnTo>
                <a:arcTo wR="2099" hR="2099" stAng="0" swAng="-5400000"/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ПРИМЕЧАНИЕ</a:t>
            </a:r>
            <a:endParaRPr b="0" lang="en-US" sz="1100" spc="-1" strike="noStrike">
              <a:solidFill>
                <a:srgbClr val="51484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Чтобы изменить изображение на этом слайде, выберите рисунок и удалите его. Затем нажмите значок "Рисунки" в заполнителе, чтобы вставить изображение.</a:t>
            </a:r>
            <a:endParaRPr b="0" lang="en-US" sz="12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 7"/>
          <p:cNvGrpSpPr/>
          <p:nvPr/>
        </p:nvGrpSpPr>
        <p:grpSpPr>
          <a:xfrm>
            <a:off x="0" y="2514600"/>
            <a:ext cx="9144000" cy="3193560"/>
            <a:chOff x="0" y="2514600"/>
            <a:chExt cx="9144000" cy="3193560"/>
          </a:xfrm>
        </p:grpSpPr>
        <p:grpSp>
          <p:nvGrpSpPr>
            <p:cNvPr id="137" name="Группа 8"/>
            <p:cNvGrpSpPr/>
            <p:nvPr/>
          </p:nvGrpSpPr>
          <p:grpSpPr>
            <a:xfrm>
              <a:off x="0" y="2514600"/>
              <a:ext cx="9144000" cy="63000"/>
              <a:chOff x="0" y="2514600"/>
              <a:chExt cx="9144000" cy="63000"/>
            </a:xfrm>
          </p:grpSpPr>
          <p:sp>
            <p:nvSpPr>
              <p:cNvPr id="138" name="Прямая соединительная линия 17"/>
              <p:cNvSpPr/>
              <p:nvPr/>
            </p:nvSpPr>
            <p:spPr>
              <a:xfrm>
                <a:off x="0" y="257760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39" name="Прямая соединительная линия 18"/>
              <p:cNvSpPr/>
              <p:nvPr/>
            </p:nvSpPr>
            <p:spPr>
              <a:xfrm>
                <a:off x="0" y="251460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  <p:sp>
          <p:nvSpPr>
            <p:cNvPr id="140" name="Прямоугольник 9"/>
            <p:cNvSpPr/>
            <p:nvPr/>
          </p:nvSpPr>
          <p:spPr>
            <a:xfrm>
              <a:off x="0" y="2641320"/>
              <a:ext cx="9144000" cy="2940120"/>
            </a:xfrm>
            <a:prstGeom prst="rect">
              <a:avLst/>
            </a:prstGeom>
            <a:solidFill>
              <a:srgbClr val="5148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grpSp>
          <p:nvGrpSpPr>
            <p:cNvPr id="141" name="Группа 10"/>
            <p:cNvGrpSpPr/>
            <p:nvPr/>
          </p:nvGrpSpPr>
          <p:grpSpPr>
            <a:xfrm>
              <a:off x="0" y="5645160"/>
              <a:ext cx="9144000" cy="63000"/>
              <a:chOff x="0" y="5645160"/>
              <a:chExt cx="9144000" cy="63000"/>
            </a:xfrm>
          </p:grpSpPr>
          <p:sp>
            <p:nvSpPr>
              <p:cNvPr id="142" name="Прямая соединительная линия 15"/>
              <p:cNvSpPr/>
              <p:nvPr/>
            </p:nvSpPr>
            <p:spPr>
              <a:xfrm flipH="1">
                <a:off x="0" y="5645160"/>
                <a:ext cx="9144000" cy="0"/>
              </a:xfrm>
              <a:prstGeom prst="line">
                <a:avLst/>
              </a:prstGeom>
              <a:ln w="3816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  <p:sp>
            <p:nvSpPr>
              <p:cNvPr id="143" name="Прямая соединительная линия 16"/>
              <p:cNvSpPr/>
              <p:nvPr/>
            </p:nvSpPr>
            <p:spPr>
              <a:xfrm flipH="1">
                <a:off x="0" y="5708160"/>
                <a:ext cx="9144000" cy="0"/>
              </a:xfrm>
              <a:prstGeom prst="line">
                <a:avLst/>
              </a:prstGeom>
              <a:ln w="12600">
                <a:solidFill>
                  <a:srgbClr val="5148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514843"/>
                  </a:solidFill>
                  <a:latin typeface="Arial"/>
                </a:endParaRPr>
              </a:p>
            </p:txBody>
          </p:sp>
        </p:grpSp>
      </p:grpSp>
      <p:pic>
        <p:nvPicPr>
          <p:cNvPr id="144" name="Рисунок 6" descr=""/>
          <p:cNvPicPr/>
          <p:nvPr/>
        </p:nvPicPr>
        <p:blipFill>
          <a:blip r:embed="rId2"/>
          <a:stretch/>
        </p:blipFill>
        <p:spPr>
          <a:xfrm>
            <a:off x="993600" y="0"/>
            <a:ext cx="1341720" cy="29750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9323-6CD9-4A40-A1B2-9E6B5B4D0317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4A0C-7DD5-4BF5-A576-262847A2157C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Группа 9"/>
          <p:cNvGrpSpPr/>
          <p:nvPr/>
        </p:nvGrpSpPr>
        <p:grpSpPr>
          <a:xfrm>
            <a:off x="6966000" y="453960"/>
            <a:ext cx="63360" cy="5634000"/>
            <a:chOff x="6966000" y="453960"/>
            <a:chExt cx="63360" cy="5634000"/>
          </a:xfrm>
        </p:grpSpPr>
        <p:sp>
          <p:nvSpPr>
            <p:cNvPr id="228" name="Прямая соединительная линия 10"/>
            <p:cNvSpPr/>
            <p:nvPr/>
          </p:nvSpPr>
          <p:spPr>
            <a:xfrm flipV="1">
              <a:off x="7029360" y="453960"/>
              <a:ext cx="0" cy="5634000"/>
            </a:xfrm>
            <a:prstGeom prst="line">
              <a:avLst/>
            </a:prstGeom>
            <a:ln w="3816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  <p:sp>
          <p:nvSpPr>
            <p:cNvPr id="229" name="Прямая соединительная линия 8"/>
            <p:cNvSpPr/>
            <p:nvPr/>
          </p:nvSpPr>
          <p:spPr>
            <a:xfrm flipV="1">
              <a:off x="6966000" y="453960"/>
              <a:ext cx="0" cy="5634000"/>
            </a:xfrm>
            <a:prstGeom prst="line">
              <a:avLst/>
            </a:prstGeom>
            <a:ln w="12600">
              <a:solidFill>
                <a:srgbClr val="5148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14843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14843"/>
                </a:solidFill>
                <a:latin typeface="Plantagenet Cherokee"/>
              </a:rPr>
              <a:t>Click to edit the title text format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28720" y="1600200"/>
            <a:ext cx="74865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Click to edit the outline text format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1" marL="6858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con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Third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our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Fif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ix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14843"/>
                </a:solidFill>
                <a:latin typeface="Euphemia"/>
              </a:rPr>
              <a:t>Seventh Outline Level</a:t>
            </a:r>
            <a:endParaRPr b="0" lang="en-US" sz="2000" spc="-1" strike="noStrike">
              <a:solidFill>
                <a:srgbClr val="514843"/>
              </a:solidFill>
              <a:latin typeface="Euphem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3"/>
          </p:nvPr>
        </p:nvSpPr>
        <p:spPr>
          <a:xfrm>
            <a:off x="82872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d8f88"/>
                </a:solidFill>
                <a:latin typeface="Euphem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4"/>
          </p:nvPr>
        </p:nvSpPr>
        <p:spPr>
          <a:xfrm>
            <a:off x="2200320" y="6356520"/>
            <a:ext cx="474336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14843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5"/>
          </p:nvPr>
        </p:nvSpPr>
        <p:spPr>
          <a:xfrm>
            <a:off x="694224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d8f88"/>
                </a:solidFill>
                <a:latin typeface="Euphem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CC05-9AD8-41F2-A2A6-683AB80F0325}" type="slidenum">
              <a:rPr b="0" lang="ru-RU" sz="1200" spc="-1" strike="noStrike">
                <a:solidFill>
                  <a:srgbClr val="9d8f88"/>
                </a:solidFill>
                <a:latin typeface="Euphem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28720" y="2292480"/>
            <a:ext cx="7572240" cy="221904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14843"/>
                </a:solidFill>
                <a:latin typeface="Plantagenet Cherokee"/>
              </a:rPr>
              <a:t>ПРОЕКТ «ОДАРЕННЫЙ УЧИТЕЛЬ = ОДАРЕННЫЙ РЕБЁНОК» </a:t>
            </a:r>
            <a:endParaRPr b="0" lang="en-US" sz="44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28720" y="4511160"/>
            <a:ext cx="757224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14843"/>
                </a:solidFill>
                <a:latin typeface="Euphemia"/>
              </a:rPr>
              <a:t>в Ульчском муниципальном районе</a:t>
            </a:r>
            <a:endParaRPr b="0" lang="en-US" sz="18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6" descr=""/>
          <p:cNvPicPr/>
          <p:nvPr/>
        </p:nvPicPr>
        <p:blipFill>
          <a:blip r:embed="rId1"/>
          <a:stretch/>
        </p:blipFill>
        <p:spPr>
          <a:xfrm>
            <a:off x="176040" y="0"/>
            <a:ext cx="8571240" cy="6595920"/>
          </a:xfrm>
          <a:prstGeom prst="rect">
            <a:avLst/>
          </a:prstGeom>
          <a:ln w="0">
            <a:noFill/>
          </a:ln>
        </p:spPr>
      </p:pic>
      <p:pic>
        <p:nvPicPr>
          <p:cNvPr id="274" name="Прямоугольник 13" descr=""/>
          <p:cNvPicPr/>
          <p:nvPr/>
        </p:nvPicPr>
        <p:blipFill>
          <a:blip r:embed="rId2"/>
          <a:stretch/>
        </p:blipFill>
        <p:spPr>
          <a:xfrm>
            <a:off x="615960" y="122400"/>
            <a:ext cx="8204040" cy="75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71640" y="2988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ояснительная записк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39280" y="1341360"/>
            <a:ext cx="82090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8000"/>
          </a:bodyPr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муниципальном районе уделяется пристальное внимание работе с одарёнными детьми, накоплен определенный опыт организации мероприятий, направленных на выявление талантливых детей, социальной поддержки школьников, имеющих особые достижения в различных видах деятельности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ыявление одарённых детей начинается в ОО муниципального района с первой ступени обучения, где ведется работа по выявлению увлечений и способностей детей на основе наблюдения, изучения психологических особенностей, речи, памяти, логического мышления. 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8 школах муниципального района созданы научные общества учащихся, деятельность которых осуществляется по следующим направлениям: химико-биологическое, эколого-биологическое, физико-математическое, краеведческое, историко-литературное, лингвистическое, общественно-гуманитарное и другие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Ежегодно в муниципальном районе проводится школьный этап ( для учащихся 4-11 классов) и муниципальный этап Всероссийской олимпиады школьников среди учащихся 7-11 классов по 19 предметам. Победители и призеры муниципального этапа принимают участие в региональном этапе (2016/2017  учебный год – 11 участников, из которых 1 учащаяся стала призером олимпиады по ОБЖ, 2017/2018 учебный год – 29 участников)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14843"/>
                </a:solidFill>
                <a:latin typeface="Euphemia"/>
              </a:rPr>
              <a:t>В учреждениях общего образования педагоги организуют занятия, направленные на развитие познавательных интересов учащихся в выбранной ими области, освоение учебного материала, не предусмотренного образовательными стандартами, через кружки, факультативы, элективные курсы.</a:t>
            </a: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  <a:p>
            <a:pPr marL="223920" indent="-223920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26560" y="1413000"/>
            <a:ext cx="7486920" cy="5256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Вместе с тем, практика последних лет работы с одарёнными детьми в муниципальном районе показывает, что существуют проблемы и нереализованные возможности в организации работы с одарёнными детьми: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не создана в полном объёме учебно-материальная база для организации работы с одаренными детьми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рганизация работы с детьми, мотивированными на успех, в ОО носит локальный характер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отсутствие высоких достижений учащихся в олимпиадном движении регионального, всероссийского уровней;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- педагогические работники ОО не всегда готовы осуществлять психолого-педагогическую поддержку одаренных детей.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работа с одаренными детьми требует особой профессиональной подготовки педагогов, внедрения современного программного обеспечения.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514843"/>
                </a:solidFill>
                <a:latin typeface="Euphemia"/>
              </a:rPr>
              <a:t>Таким образом, проект «Одаренный ребенок = одаренный учитель» направлен на преодоление обозначенных проблем.  </a:t>
            </a: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 algn="just"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  <a:p>
            <a:pPr>
              <a:lnSpc>
                <a:spcPct val="7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спорт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826920" y="1483920"/>
            <a:ext cx="7848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Наименование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«Одаренный ребёнок = одаренный учитель»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Куратор проекта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– Дяксул Л.В. 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Операторы проекта: 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МКУ «Районный методический кабинет» Ульчского муниципального района Хабаровского края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  <a:p>
            <a:pPr marL="228600" indent="-228600">
              <a:lnSpc>
                <a:spcPct val="90000"/>
              </a:lnSpc>
              <a:spcBef>
                <a:spcPts val="1800"/>
              </a:spcBef>
              <a:buClr>
                <a:srgbClr val="51484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14843"/>
                </a:solidFill>
                <a:latin typeface="Euphemia"/>
              </a:rPr>
              <a:t>Цель проекта:</a:t>
            </a:r>
            <a:r>
              <a:rPr b="0" lang="ru-RU" sz="2400" spc="-1" strike="noStrike">
                <a:solidFill>
                  <a:srgbClr val="514843"/>
                </a:solidFill>
                <a:latin typeface="Euphemia"/>
              </a:rPr>
              <a:t> создание современной образовательной среды для выявления и сопровождения одаренных детей.</a:t>
            </a:r>
            <a:endParaRPr b="0" lang="en-US" sz="2400" spc="-1" strike="noStrike">
              <a:solidFill>
                <a:srgbClr val="514843"/>
              </a:solidFill>
              <a:latin typeface="Euphem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Задачи проекта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1" name="Содержимое 3" descr=""/>
          <p:cNvPicPr/>
          <p:nvPr/>
        </p:nvPicPr>
        <p:blipFill>
          <a:blip r:embed="rId1"/>
          <a:stretch/>
        </p:blipFill>
        <p:spPr>
          <a:xfrm>
            <a:off x="-974880" y="1487520"/>
            <a:ext cx="8137800" cy="5108400"/>
          </a:xfrm>
          <a:prstGeom prst="rect">
            <a:avLst/>
          </a:prstGeom>
          <a:ln w="0">
            <a:noFill/>
          </a:ln>
        </p:spPr>
      </p:pic>
      <p:pic>
        <p:nvPicPr>
          <p:cNvPr id="282" name="Схема 4" descr=""/>
          <p:cNvPicPr/>
          <p:nvPr/>
        </p:nvPicPr>
        <p:blipFill>
          <a:blip r:embed="rId2"/>
          <a:stretch/>
        </p:blipFill>
        <p:spPr>
          <a:xfrm>
            <a:off x="5437080" y="1316160"/>
            <a:ext cx="3382920" cy="479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Партнеры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4" name="Объект 3" descr=""/>
          <p:cNvPicPr/>
          <p:nvPr/>
        </p:nvPicPr>
        <p:blipFill>
          <a:blip r:embed="rId1"/>
          <a:stretch/>
        </p:blipFill>
        <p:spPr>
          <a:xfrm>
            <a:off x="828720" y="1603440"/>
            <a:ext cx="74865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Риски проекта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900000" y="1700280"/>
          <a:ext cx="7417080" cy="4206960"/>
        </p:xfrm>
        <a:graphic>
          <a:graphicData uri="http://schemas.openxmlformats.org/drawingml/2006/table">
            <a:tbl>
              <a:tblPr/>
              <a:tblGrid>
                <a:gridCol w="3961080"/>
                <a:gridCol w="34560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Риски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Euphemia"/>
                        </a:rPr>
                        <a:t>Способы устранения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4843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Незаинтересованность участников образовательного процесса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оздание системы поощрения как учащихся, так и педагогов 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Дефицит высококвалифицированных высокомотивированных педагогических кадр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организация повышения квалификации педагогов, привлечение молодых специалистов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9e9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Слабая материально-техническая база, недостаточное финансирование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514843"/>
                          </a:solidFill>
                          <a:latin typeface="Euphemia"/>
                        </a:rPr>
                        <a:t>финансовое планирование, привлечение дополнительных финансовых средств (спонсорская помощь)</a:t>
                      </a: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51484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cfcf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8720" y="75960"/>
            <a:ext cx="748512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14843"/>
                </a:solidFill>
                <a:latin typeface="Plantagenet Cherokee"/>
              </a:rPr>
              <a:t>Ожидаемые результаты </a:t>
            </a:r>
            <a:endParaRPr b="0" lang="en-US" sz="2800" spc="-1" strike="noStrike">
              <a:solidFill>
                <a:srgbClr val="514843"/>
              </a:solidFill>
              <a:latin typeface="Plantagenet Cherokee"/>
            </a:endParaRPr>
          </a:p>
        </p:txBody>
      </p:sp>
      <p:pic>
        <p:nvPicPr>
          <p:cNvPr id="288" name="Объект 4" descr=""/>
          <p:cNvPicPr/>
          <p:nvPr/>
        </p:nvPicPr>
        <p:blipFill>
          <a:blip r:embed="rId1"/>
          <a:stretch/>
        </p:blipFill>
        <p:spPr>
          <a:xfrm>
            <a:off x="804960" y="1603440"/>
            <a:ext cx="75531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0:01:16Z</dcterms:created>
  <dc:creator>Юрок</dc:creator>
  <dc:description/>
  <dc:language>en-US</dc:language>
  <cp:lastModifiedBy>Альбина Александровна Базгутдинова</cp:lastModifiedBy>
  <dcterms:modified xsi:type="dcterms:W3CDTF">2018-06-14T04:57:36Z</dcterms:modified>
  <cp:revision>50</cp:revision>
  <dc:subject/>
  <dc:title>Слайд 1</dc:title>
</cp:coreProperties>
</file>