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BBE-F2D3-4EBB-934D-70D81D46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851C-9E28-408A-BA29-29CF95C7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D62-EC5F-4589-A70B-402D57DD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1DE4-10CF-47C5-B77E-85BE006A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9FC-FB51-4560-B3F4-9E10CF3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428E-C271-417D-84C1-9BB93780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188-9F04-4227-916B-532C9E57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A253-056A-44C3-9F2C-E966612F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F883-54B9-40FC-B2C6-92C63B0A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C9C-7DC1-4848-85F7-61240658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A112-2E94-41F4-9A84-2B013256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A83-F943-4075-95F7-2D18ECDC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B593-BD7D-40D6-BBB5-E75087F709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ект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487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4"/>
          <p:cNvSpPr/>
          <p:nvPr/>
        </p:nvSpPr>
        <p:spPr>
          <a:xfrm>
            <a:off x="2211480" y="404640"/>
            <a:ext cx="4808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6"/>
          <p:cNvSpPr/>
          <p:nvPr/>
        </p:nvSpPr>
        <p:spPr>
          <a:xfrm>
            <a:off x="2124000" y="5335560"/>
            <a:ext cx="46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425520" y="760320"/>
            <a:ext cx="8292960" cy="53373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ая соединительная линия 2"/>
          <p:cNvSpPr/>
          <p:nvPr/>
        </p:nvSpPr>
        <p:spPr>
          <a:xfrm>
            <a:off x="2916360" y="981000"/>
            <a:ext cx="3954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23:50:15Z</dcterms:created>
  <dc:creator>Бухарова Раиса Фёдоровна</dc:creator>
  <dc:description/>
  <dc:language>en-US</dc:language>
  <cp:lastModifiedBy>Бухарова Раиса Фёдоровна</cp:lastModifiedBy>
  <dcterms:modified xsi:type="dcterms:W3CDTF">2018-05-21T23:53:58Z</dcterms:modified>
  <cp:revision>1</cp:revision>
  <dc:subject/>
  <dc:title>Презентация PowerPoint</dc:title>
</cp:coreProperties>
</file>