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873-8467-4B67-ADCE-0A4114BE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4B4-34C5-4186-8287-83A2457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12B-D5F7-4A20-A236-24E11F7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860-7E02-40F6-AE46-B26E784F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CF2-4ED6-4646-8318-5E144D8A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A0F-46B9-4924-AA7F-F0903D4B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5D5-1392-4E19-8459-905908A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CEF-5FF0-4988-A7A9-E1C7764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219-6B94-4E8D-8901-160B42E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AE6-2DA3-4AA9-88D2-3DD11D4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F96-F6E2-47CE-BDCC-FF04F5F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BA8-3E26-455C-B5DB-441AEB9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5391-946C-4CA7-8C7E-4137093E2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4"/>
          <p:cNvSpPr/>
          <p:nvPr/>
        </p:nvSpPr>
        <p:spPr>
          <a:xfrm>
            <a:off x="2211480" y="404640"/>
            <a:ext cx="480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>
            <a:off x="2124000" y="533556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5520" y="760320"/>
            <a:ext cx="8292960" cy="53373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2"/>
          <p:cNvSpPr/>
          <p:nvPr/>
        </p:nvSpPr>
        <p:spPr>
          <a:xfrm>
            <a:off x="2916360" y="981000"/>
            <a:ext cx="395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3:50:15Z</dcterms:created>
  <dc:creator>Бухарова Раиса Фёдоровна</dc:creator>
  <dc:description/>
  <dc:language>en-US</dc:language>
  <cp:lastModifiedBy>Бухарова Раиса Фёдоровна</cp:lastModifiedBy>
  <dcterms:modified xsi:type="dcterms:W3CDTF">2018-05-21T23:53:58Z</dcterms:modified>
  <cp:revision>1</cp:revision>
  <dc:subject/>
  <dc:title>Презентация PowerPoint</dc:title>
</cp:coreProperties>
</file>