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328-2F91-4A0A-AB67-BEA02D35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F1E-9F04-457D-BE7C-F95B6AE8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239F-7FD1-4C40-9C8B-87C6EDF1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F25-5259-45EA-BB4C-D964FBD1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895-A558-453B-B875-D00476FE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06E-2603-44DF-896B-FF8BF973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14C-3C91-4B7D-9674-A719467D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3C3-64B4-4CA7-8820-BD805036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C96-091F-4348-8BDA-0F91AFF9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737-A361-4C5A-B0F6-E4D3ACF0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AC8-BB35-493F-A8B8-DC1C086E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A9BB-DB7D-4B34-84D2-527192C9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FE27-C905-4059-88A2-A3BCF3BE9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487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ая соединительная линия 4"/>
          <p:cNvSpPr/>
          <p:nvPr/>
        </p:nvSpPr>
        <p:spPr>
          <a:xfrm>
            <a:off x="2211480" y="404640"/>
            <a:ext cx="4808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6"/>
          <p:cNvSpPr/>
          <p:nvPr/>
        </p:nvSpPr>
        <p:spPr>
          <a:xfrm>
            <a:off x="2124000" y="5335560"/>
            <a:ext cx="46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425520" y="760320"/>
            <a:ext cx="8292960" cy="53373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ая соединительная линия 2"/>
          <p:cNvSpPr/>
          <p:nvPr/>
        </p:nvSpPr>
        <p:spPr>
          <a:xfrm>
            <a:off x="2916360" y="981000"/>
            <a:ext cx="3954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23:50:15Z</dcterms:created>
  <dc:creator>Бухарова Раиса Фёдоровна</dc:creator>
  <dc:description/>
  <dc:language>en-US</dc:language>
  <cp:lastModifiedBy>Бухарова Раиса Фёдоровна</cp:lastModifiedBy>
  <dcterms:modified xsi:type="dcterms:W3CDTF">2018-05-21T23:53:58Z</dcterms:modified>
  <cp:revision>1</cp:revision>
  <dc:subject/>
  <dc:title>Презентация PowerPoint</dc:title>
</cp:coreProperties>
</file>